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7E1C-A582-467F-BD86-83861A17E0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 takes place in 2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 takes place in 2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DNA molecule (the gene) unz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RNA copy is produced, by matching complementary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DNA molecule (the gene) unz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RNA copy is produced, by matching complementary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RNA copy is made with the help of RNA polymer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RNA copy is made with the help of RNA polymer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4 different subunits called nucleotides which can be arranged in any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4 different subunits called nucleotides which can be arranged in any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ine to Thymine  A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ine to Guanine  C-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ine to Thymine  A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ine to Guanine  C-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Sequence of bases that act like 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(order) of bases tells the cell what proteins to m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dictates the sequence of amino acids, which determines the shape of 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the sequence in the DNA is wrong it may result in a genetic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Sequence of bases that act like 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(order) of bases tells the cell what proteins to m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dictates the sequence of amino acids, which determines the shape of 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the sequence in the DNA is wrong it may result in a genetic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le cell anaemia is caused by one change in the DNA ba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le cell anaemia is caused by one change in the DNA ba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1362-BDDA-43CC-9B66-5076FCD7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8CF6-4EBA-4984-A149-E351C1A8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14E6-3DFE-4DB4-8C5C-D75EC2F1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59ED-74AE-4800-B42D-CD75852D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930C-C657-47B7-BA2F-91B271D0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28E6-9673-4B53-80E0-73A8391D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CB69-7325-4146-8D17-40558231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559B-CE12-46E7-A262-927FBF97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D7A3-85BD-4F03-BF08-E3657A70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25E3-73D3-4D2F-A2C4-A4BE19E1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9281-27F5-40AB-9F7A-54C7ABF7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C03D-7618-4F63-878F-8A5FB62D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5FEB-478E-4275-9D16-01BB0AB3A2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1413000"/>
            <a:ext cx="69138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Arial"/>
              </a:rPr>
              <a:t>Protein Synthes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50920" y="6381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DNA6"/>
          <p:cNvPicPr/>
          <p:nvPr/>
        </p:nvPicPr>
        <p:blipFill>
          <a:blip r:embed="rId1"/>
          <a:stretch/>
        </p:blipFill>
        <p:spPr>
          <a:xfrm>
            <a:off x="0" y="649440"/>
            <a:ext cx="9144000" cy="34606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95280" y="41497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5445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3635280" y="0"/>
            <a:ext cx="55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tein Synthesis takes place in 2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1_4a"/>
          <p:cNvPicPr/>
          <p:nvPr/>
        </p:nvPicPr>
        <p:blipFill>
          <a:blip r:embed="rId1"/>
          <a:stretch/>
        </p:blipFill>
        <p:spPr>
          <a:xfrm>
            <a:off x="826920" y="1989000"/>
            <a:ext cx="4248360" cy="261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11_4b"/>
          <p:cNvPicPr/>
          <p:nvPr/>
        </p:nvPicPr>
        <p:blipFill>
          <a:blip r:embed="rId2"/>
          <a:stretch/>
        </p:blipFill>
        <p:spPr>
          <a:xfrm>
            <a:off x="4788000" y="1989000"/>
            <a:ext cx="4149720" cy="2603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395280" y="4724280"/>
            <a:ext cx="8280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art of the DNA molecule (the gene) unz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n RNA copy is produced, by matching complementary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1_4c"/>
          <p:cNvPicPr/>
          <p:nvPr/>
        </p:nvPicPr>
        <p:blipFill>
          <a:blip r:embed="rId1"/>
          <a:stretch/>
        </p:blipFill>
        <p:spPr>
          <a:xfrm>
            <a:off x="179280" y="1341360"/>
            <a:ext cx="4537080" cy="313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11_4d"/>
          <p:cNvPicPr/>
          <p:nvPr/>
        </p:nvPicPr>
        <p:blipFill>
          <a:blip r:embed="rId2"/>
          <a:stretch/>
        </p:blipFill>
        <p:spPr>
          <a:xfrm>
            <a:off x="4606920" y="1341360"/>
            <a:ext cx="4537080" cy="31449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684360" y="4724280"/>
            <a:ext cx="8208720" cy="17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e mRNA copy is made with the help of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RNA polymerase.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Arial"/>
              </a:rPr>
              <a:t>Complementary 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mentary RNA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27"/>
          <p:cNvSpPr/>
          <p:nvPr/>
        </p:nvSpPr>
        <p:spPr>
          <a:xfrm>
            <a:off x="6156360" y="2708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6156360" y="3500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615636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6084720" y="5373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300px-MRNA-interaction"/>
          <p:cNvPicPr/>
          <p:nvPr/>
        </p:nvPicPr>
        <p:blipFill>
          <a:blip r:embed="rId1"/>
          <a:stretch/>
        </p:blipFill>
        <p:spPr>
          <a:xfrm>
            <a:off x="1979640" y="1459080"/>
            <a:ext cx="5346720" cy="53989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H="1">
            <a:off x="5219280" y="1916280"/>
            <a:ext cx="1297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835280" y="4005360"/>
            <a:ext cx="1368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84360" y="378936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516720" y="16286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6588000" y="1700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H="1">
            <a:off x="5796000" y="5013360"/>
            <a:ext cx="151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7380360" y="4797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Unlabelled_animal_cell_for_cell_worksheet_with_ribosomes"/>
          <p:cNvPicPr/>
          <p:nvPr/>
        </p:nvPicPr>
        <p:blipFill>
          <a:blip r:embed="rId1"/>
          <a:stretch/>
        </p:blipFill>
        <p:spPr>
          <a:xfrm>
            <a:off x="1476360" y="1628640"/>
            <a:ext cx="6192720" cy="5573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1835280" y="3500280"/>
            <a:ext cx="115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H="1">
            <a:off x="5940360" y="2349360"/>
            <a:ext cx="1944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 flipV="1">
            <a:off x="1692360" y="5373720"/>
            <a:ext cx="1150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 flipH="1" flipV="1">
            <a:off x="5508720" y="5084280"/>
            <a:ext cx="12952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485928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 flipH="1" flipV="1">
            <a:off x="4788000" y="4365720"/>
            <a:ext cx="72072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125892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1258920" y="5589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5508720" y="6093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6804000" y="595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7885080" y="213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471636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animal_cell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6578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RNA_Cycle"/>
          <p:cNvPicPr/>
          <p:nvPr/>
        </p:nvPicPr>
        <p:blipFill>
          <a:blip r:embed="rId1"/>
          <a:stretch/>
        </p:blipFill>
        <p:spPr>
          <a:xfrm>
            <a:off x="1908000" y="1844640"/>
            <a:ext cx="5381640" cy="424836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trna"/>
          <p:cNvPicPr/>
          <p:nvPr/>
        </p:nvPicPr>
        <p:blipFill>
          <a:blip r:embed="rId1"/>
          <a:stretch/>
        </p:blipFill>
        <p:spPr>
          <a:xfrm>
            <a:off x="971640" y="1197000"/>
            <a:ext cx="6732360" cy="55227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54000"/>
            <a:ext cx="9074160" cy="68040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DNA2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46911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324000" y="5300640"/>
            <a:ext cx="84960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made up of 4 different subunits calle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ucleotid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which can be arranged in any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enine to Thymine 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A-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ytosine to Guanine 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C-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NA9"/>
          <p:cNvPicPr/>
          <p:nvPr/>
        </p:nvPicPr>
        <p:blipFill>
          <a:blip r:embed="rId1"/>
          <a:stretch/>
        </p:blipFill>
        <p:spPr>
          <a:xfrm>
            <a:off x="179280" y="82440"/>
            <a:ext cx="8964720" cy="6761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1890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bases that act like 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95280" y="981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(order) of bases tells the cell what proteins to m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95280" y="213372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bases dictates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amino acids, which determines the shape of a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95280" y="400536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95280" y="5445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 if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 the DNA is wrong it may result in a genetic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ckle cell anaemia is caused by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change in the DNA base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476360" y="1600200"/>
            <a:ext cx="575964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NA7"/>
          <p:cNvPicPr/>
          <p:nvPr/>
        </p:nvPicPr>
        <p:blipFill>
          <a:blip r:embed="rId1"/>
          <a:stretch/>
        </p:blipFill>
        <p:spPr>
          <a:xfrm>
            <a:off x="2509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4932360" y="692280"/>
            <a:ext cx="324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DNA10"/>
          <p:cNvPicPr/>
          <p:nvPr/>
        </p:nvPicPr>
        <p:blipFill>
          <a:blip r:embed="rId1"/>
          <a:stretch/>
        </p:blipFill>
        <p:spPr>
          <a:xfrm>
            <a:off x="250920" y="-380880"/>
            <a:ext cx="8893080" cy="66722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539640" y="59500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20:35:41Z</dcterms:created>
  <dc:creator>Holloway</dc:creator>
  <dc:description/>
  <dc:language>en-US</dc:language>
  <cp:lastModifiedBy>LEGION2</cp:lastModifiedBy>
  <dcterms:modified xsi:type="dcterms:W3CDTF">2016-01-11T13:53:25Z</dcterms:modified>
  <cp:revision>22</cp:revision>
  <dc:subject/>
  <dc:title>The Human Genome and Disease</dc:title>
</cp:coreProperties>
</file>